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54FBA-0B7B-4C1C-BCCB-11CF997E2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0C241-2632-441D-88DC-77DD00078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8987A-393B-49D6-A9B7-528A41712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E4C4B-89E9-4B39-B4F1-AAA5501AF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CE0ED-E469-4613-9BD2-6558C31D4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EB553-224E-4E25-BD48-A1A166E1C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A39C0-5A35-4C28-A8FE-F63A5000A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F216F-0573-40DC-B4AF-03EC15E11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3A7BE-E536-4364-8824-82DE8B2FD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75506-BC6E-40DE-8229-6C95D4D21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1EAD7-8FA3-4738-86B0-D3ACE8203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C1794-B994-4055-8437-03623A1F9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FE81E-1AC3-4E31-BB5A-6FA15BBDBE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Venn Diagram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Bar Graph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Data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Pictograp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Regular Polygon</a:t>
            </a: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	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Solid Figure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Sphere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Trapezoid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Verti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6002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Denominator</a:t>
            </a: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	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Eighth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Fraction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Mixed Numbers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Numerat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6002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Sixth</a:t>
            </a: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	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Tenth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Third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Whole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Unit Fra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6002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+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-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Associative Property of Addition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 Associative Property of Multiplicatio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6002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Commutative Property of Addition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 Commutative Property of Multiplication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Differences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Jo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6002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Identity Property of Addition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 Identity Property of Multiplication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Re-grouping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Remo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6002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Thousands plac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6002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6002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Estimate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Expanded Form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Place Valu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Estimate</a:t>
            </a: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	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Foot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Hour</a:t>
            </a: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	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Met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Second</a:t>
            </a: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	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Temperature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Thermometer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Yar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Angle</a:t>
            </a: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	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Concave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Convex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Co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Celsius</a:t>
            </a: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	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Fahrenheit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Centimeter </a:t>
            </a: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	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In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6002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Cone</a:t>
            </a: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	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Cube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Cylinder</a:t>
            </a: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	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Ed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6002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Face</a:t>
            </a: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	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Hexagon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Irregular Polygon</a:t>
            </a: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	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Pentag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6002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Plane Figure</a:t>
            </a: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	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Polygon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Quadrilateral</a:t>
            </a: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	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Rectangular Pris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6002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8T00:44:08Z</dcterms:created>
  <dc:creator>Abby Owens</dc:creator>
  <dc:description/>
  <dc:language>en-US</dc:language>
  <cp:lastModifiedBy>Abby Owens</cp:lastModifiedBy>
  <dcterms:modified xsi:type="dcterms:W3CDTF">2010-05-28T01:13:41Z</dcterms:modified>
  <cp:revision>14</cp:revision>
  <dc:subject/>
  <dc:title>Venn Diagram  Graph  Pictograph</dc:title>
</cp:coreProperties>
</file>